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C6C-D2A9-4726-B334-17387A70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D0F-74D8-4E42-B1BC-C3F5264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C46-59E4-47A3-9279-041D19DE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618-3A20-4807-AA15-ABB2490B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9C7-D016-42C2-85C0-D7129079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3F4-65B5-4509-8F55-D8D6E61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72-34B5-48E6-9118-A2EB2006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33D-2A21-457E-AF50-A4FDB46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075-CC14-44CD-B70A-D723344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9C1-D670-4618-B1AC-93ECBAF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489-27EF-4CF0-924D-57EF6DAE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FD7-1204-4CEA-B394-1302427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1C0-B515-41F1-97EB-6450F10CD99B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Global News Media Corp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English Subject Curricul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aims of the studies are to enable pupil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alyse and assess the role of some English-language media in international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Global Media Corp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 business that might own and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worldwide TV and radio channels and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ilm compan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global and local newspapers, magazines and publishing ho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ime Warner Inc. – one of the largest media corporations 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Owns C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BBC</a:t>
            </a:r>
            <a:br>
              <a:rPr sz="4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he British Broadcasting Cor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ree from advertising and commercial inte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inanced by televison license fees paid by British viewers + the sale of high quality programs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C World News radio broadcasts in over 30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C independent of the British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C considered to maintain a high standard of journalis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Known to be reliable and objec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CNN</a:t>
            </a:r>
            <a:br>
              <a:rPr sz="40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he Cable News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Owned by Time Warner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CNN broadcasts to 150 countries from five international off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amous for being first on the scene of world n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CNN was the only network with the technology to broadcast worldwide 24 hours a day during the Gulf War in19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Gulf War changed news reporting from dry facts to high drama – other news networks followed s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as been accused of presenting a pro-American world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owever, CNN uses mainly local news reporters in many areas of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Al Jaze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first non-English global news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egan as a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ased in the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roadcasts are in Arab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l Jazeera English launched in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offices in UK, US and Middle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as local reporters in many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Has journalists from the BBC and CNN on the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resents news stories from all over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France 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 French-language global news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eporting news 24 hours a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Began as a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lans to broadcast in Arabic and Spanish in a few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New Global Media </a:t>
            </a:r>
            <a:br>
              <a:rPr sz="3600"/>
            </a:b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New Perspectives on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the rise of new global news corporations like Al Jazeera and France 24 represent a move away from Anglo-American dominated global news repor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pite the fact that CNN, BCC, Al Jazeera, and France 24 employ local reporters in many countries – their news coverage, news items and headlines and formats are quite similar – almost iden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seems as if they are bent on copying each other in the competition for an English language global news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ever, will they in time part ways and develop their own individual style, and cater more to the specific interests of different population group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will they, in their competition, for viewers try to appeal to everyone and become even more alik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y Nina Sandström Angel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12-01T00:14:2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